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BDB-416B-4924-83CC-A292AC48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4E4-FB25-4077-8929-2D6A30D9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416-5552-4D40-BE7C-3AB22283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8F2-D2ED-41DF-89C9-FA477CDB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146-52EF-4EB8-93C2-3F825064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C8E-D0FB-4D65-8B71-46CF281A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125-6FF3-4586-A045-A72BF4A7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615-BA2D-44F5-B852-54140ED2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E12-FBF0-4B46-85FC-ECBCEB2F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ED8-78EE-4B43-8975-A543264D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7DC-50D8-4FDF-8140-96EBD76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EF8-F38B-4B5A-BA6F-6034BC2B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5F84-3285-40A8-BB86-15BEE9B04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0" t="840" r="840" b="0"/>
          <a:stretch/>
        </p:blipFill>
        <p:spPr>
          <a:xfrm>
            <a:off x="411120" y="554040"/>
            <a:ext cx="8250120" cy="5797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952880" y="632448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0" r="1468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990720" y="121932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lumb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838080" y="99072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port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0" t="0" r="956" b="0"/>
          <a:stretch/>
        </p:blipFill>
        <p:spPr>
          <a:xfrm>
            <a:off x="411120" y="504720"/>
            <a:ext cx="824076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838080" y="114300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ecretar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0" t="0" r="1317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838080" y="213372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ecurity guar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914400" y="16002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ldi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648320" y="91440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eterinarian (Vet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0" t="0" r="1279" b="0"/>
          <a:stretch/>
        </p:blipFill>
        <p:spPr>
          <a:xfrm>
            <a:off x="411120" y="504720"/>
            <a:ext cx="8213760" cy="5846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5410080" y="38862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aitres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0" t="0" r="878" b="0"/>
          <a:stretch/>
        </p:blipFill>
        <p:spPr>
          <a:xfrm>
            <a:off x="411120" y="504720"/>
            <a:ext cx="8247240" cy="5846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5029200" y="396252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cian (Eye doctor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1317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914400" y="48006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nc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38080" y="42670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rm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219320" y="12952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ct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914400" y="52578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ctres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762120" y="9144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stronau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0" r="1429" b="0"/>
          <a:stretch/>
        </p:blipFill>
        <p:spPr>
          <a:xfrm>
            <a:off x="411120" y="504720"/>
            <a:ext cx="820116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838080" y="259092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rpent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124080" y="49528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shi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85800" y="32767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struction work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14400" y="45720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ntis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0" t="0" r="1317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080" y="441972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ngine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37:38Z</dcterms:created>
  <dc:creator>User</dc:creator>
  <dc:description/>
  <dc:language>en-US</dc:language>
  <cp:lastModifiedBy>Cynthia Wiseman</cp:lastModifiedBy>
  <dcterms:modified xsi:type="dcterms:W3CDTF">2012-06-08T04:04:35Z</dcterms:modified>
  <cp:revision>3</cp:revision>
  <dc:subject/>
  <dc:title>Slide 1</dc:title>
</cp:coreProperties>
</file>